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98BF-6717-4B6E-BC70-0F99AA634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ecarboxylated in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reduced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xidizing NADH to NA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acteria &amp; yea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owse.blogspot.ca/2012/02/role-of-sweetness-in-wine-bala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866B-097D-4B70-B7EC-D603013F6D0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textbookofbacteriology.net/themicrobialworld/Effect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Ethanol fermentation:  bread dough rising using yeast; brewing beer &amp; wine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Lacate fermentation: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1D7F-DA95-4927-99EE-622FC12B983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ermentation_in_food_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Ethanol fermentation:  bread dough rising using yeast; brewing beer &amp; wine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Lacate fermentation: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DC52-187E-4B50-9DF8-68D8812D6DB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reduced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actic ac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xidizing NADH to NA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d as primary energy pathway in some bacteria but can also be supplemental in many eukaryotes, e.g., musc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k12.org/user:a3F1aWNrQHdlYmIub3Jn/section/Anaerobic-Respiration%253A-ATP%252C-New-Fuels%252C-and-Yogurt-without-Oxyg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E466-3EEF-418E-8199-2CA519C4C6D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port-fitness-advisor.com/lactate-thresh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CE3-65AE-4F1D-8CA3-E205166E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F58-E311-42F7-83D2-610986AD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5F9-8E27-4B04-9ACF-072C15F0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FE4-AC1C-47DA-B59C-AD00B18E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714-1E54-43B5-99C3-06D20945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E760-A235-4250-9B29-E900DC1A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DCF-8BF3-42E3-9461-E9E321FE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E3D-B837-4A2D-993E-841E4635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377-4B70-400D-ADB6-5672D9BB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DC1-738A-4ECB-AF76-53BBE1E5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F54-5D82-491D-A7BF-3F23FFDE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5A3-C84F-43E0-88F4-72B3B8DC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6D91-91FA-419F-B400-34B669658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rokaryotes have electron transport chains on internal membran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l electron acceptor can b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erobic) or other molecules (anaerobic) such as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,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mentation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erob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duction of pyruvat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ct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18240" y="1981080"/>
            <a:ext cx="346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lcohol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0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87400" y="304920"/>
            <a:ext cx="5721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Products of Fer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actate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24160" y="1905120"/>
            <a:ext cx="449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ate Thres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tate threshold (L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exercise intensity at which blood lactate concentration begins to increase shar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improves oxygen delivery, which results in an increase in lactate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ate Thres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82560" y="1981080"/>
            <a:ext cx="597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oxygen required by muscle tissue to oxidize lactic acid back to 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21:11:38Z</dcterms:created>
  <dc:creator>rubina khan</dc:creator>
  <dc:description/>
  <dc:language>en-US</dc:language>
  <cp:lastModifiedBy>rubina khan</cp:lastModifiedBy>
  <dcterms:modified xsi:type="dcterms:W3CDTF">2013-10-22T18:49:57Z</dcterms:modified>
  <cp:revision>96</cp:revision>
  <dc:subject/>
  <dc:title>Anaerobic Pathways</dc:title>
</cp:coreProperties>
</file>